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001FF-7A85-4514-8B1A-29E9F6CF8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1DAE1-B2C1-42DE-AD47-45C4DDC56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D11FA-214A-4A5B-BC57-BB99251B6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DB402-4922-4241-85E3-8740E09FE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EE717-7273-4653-BFC7-890CE361F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A933A-669F-4145-9E59-1DB20F3F9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29DDB-1248-4C74-AF98-8775CC69B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92DA2-3C74-4C2E-BD6F-2F9017AA4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85F6C-BA42-4FCA-A526-3D9AF0D6C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1779F-5F49-4AD6-B854-02B0608CA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5282E-8902-4BB0-B43E-9967D2D07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F5D2B-209A-43F8-BD02-1C31BC5FF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4CD91-8E41-4F89-BE3A-5464EE2EB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D29EA-A1E7-44DC-A72A-46F3B59B7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A2019-CA68-4317-884D-52EBA90A5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48070-E041-449D-8DDE-26581650F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60417-52CC-485E-898B-4F2895175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2C282-4990-4FE8-8E2F-9D83AA6F2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C84C6-1874-428D-AB9D-C1F589F61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473F2-D757-4A5D-BD17-6A0A945A1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84B87-8662-40BF-AC21-2A3843321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712E1-A0D1-4480-8E78-81A32EBBE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360EE-B91B-4815-966F-677274C53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CF541-6D0C-4C8E-A845-73A7FFFC6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BFAE2-0FEC-49BE-BC3A-3089A5D6BFF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1DCDD-CB32-4970-BBE0-81206269CD7F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53" name="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09720" algn="ctr">
              <a:spcBef>
                <a:spcPts val="601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17640" algn="ctr"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imes New Roman"/>
              </a:rPr>
              <a:t>Persona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762120" y="3765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Kinds of Persona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orceful, angry perso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despise the ideas about the American work ethic set forth in this fil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tached, unemotional perso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ideas about the American work ethic set forth in this film are similar to what can be found in many other examples of popular contemporary 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Kinds of Persona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volved perso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seems to me that the ideas about the American work ethic in this film are similar to what can be found in many other examples of popular contemporary 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pologetic perso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know that my interpretation of the film isn’t good, but it took me a long time to figure out what I wanted to s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Genre and Rhetorical Situation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vernment docu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ters to the Edit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ine chat room discuss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sonal letters to relati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dding announc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ademic pa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ffi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cebook and MySpace p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lo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Formality in Diction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roughout one entire seaso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everly Hills 9021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Kelly has two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guy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terested in h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roughout one entire seaso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everly Hills 9021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Kelly has two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ude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rested in h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roughout one entire seaso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everly Hills 9021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Kelly has two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gentlemen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rested in h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roughout one entire seaso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everly Hills 9021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Kelly has two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young me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terested in h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roughout one entire seaso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everly Hills 9021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Kelly has two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uitor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terested in h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roughout one entire seaso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everly Hills 9021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Kelly has two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lacker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terested in h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roughout one entire seaso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everly Hills 9021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Kelly has two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l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terested in h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Formality in Point of View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st-person singul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film gives me the impression that Franklin’s ideas are still alive and we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st-person plu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film gives us the impression that Franklin’s ideas are still alive and we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-person singular and plu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film gives you the impression that Franklin’s ideas are still alive and we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Formality in Point of View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-person singul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film gives one the impression that Franklin’s ideas are alive and we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film gives viewers the impression that Franklin’s ideas are alive and we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film gives the impression that Franklin’s ideas are alive and we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Formality in Point of View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finite (advice-giving, instructional) second-person point of 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first thing you must do is examine your own life and your work prior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finite (insider) second-person point of 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think you will agree with my remarks in this pap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definite second-person point of 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nklin says that you need to try to get ahead through working h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Formality in Point of View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rst plural representing the “insider-director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80000"/>
              </a:lnSpc>
              <a:spcBef>
                <a:spcPts val="60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paper interpret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Death of a Salesma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light of these areas of Franklin’s work ethic theory.  As we will see throughout the discussion, what Franklin says is tested and then shattered by characters in the pl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rst plural representing the “you and me inclusive” perspectiv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80000"/>
              </a:lnSpc>
              <a:spcBef>
                <a:spcPts val="60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this play is any indication, our ideas about the results of work have changed much since Franklin’s “Letter” in the eighteenth centu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rst plural representing the multiple auth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80000"/>
              </a:lnSpc>
              <a:spcBef>
                <a:spcPts val="60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seems to us that the point Franklin makes is well established in Miller’s pl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12:28:15Z</dcterms:created>
  <dc:creator>csclab</dc:creator>
  <dc:description/>
  <dc:language>en-US</dc:language>
  <cp:lastModifiedBy>csclab</cp:lastModifiedBy>
  <dcterms:modified xsi:type="dcterms:W3CDTF">2009-03-24T12:59:35Z</dcterms:modified>
  <cp:revision>6</cp:revision>
  <dc:subject/>
  <dc:title>Persona</dc:title>
</cp:coreProperties>
</file>